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3B9-C45F-4100-9647-31769BF4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B60-C519-4FC6-8ED4-6083A546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31C-F520-4D60-A644-5475D0EA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CF8-27ED-4B63-9A98-85390A83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AF2-3647-46FE-8ED5-92C19275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C81-4362-436B-A16F-AD22555D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BC9-1E68-4933-8B4B-C22C669E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BEB-3414-4A84-ABB9-A89E6518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AE4-DA82-4787-9A0F-705C9087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A63-DE33-4F4A-A411-EC8BCC6C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082-DF79-4E7F-A01A-1BD7E0C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34D-AD4C-47F8-9F3C-91EF9FC9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F28A-E720-41D8-B504-56B306D48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34:51Z</dcterms:created>
  <dc:creator>abeason</dc:creator>
  <dc:description/>
  <dc:language>en-US</dc:language>
  <cp:lastModifiedBy>abeason</cp:lastModifiedBy>
  <dcterms:modified xsi:type="dcterms:W3CDTF">2008-11-19T18:34:55Z</dcterms:modified>
  <cp:revision>1</cp:revision>
  <dc:subject/>
  <dc:title>Slide 1</dc:title>
</cp:coreProperties>
</file>